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91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960" y="0"/>
            <a:ext cx="291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7750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0856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326520"/>
            <a:ext cx="291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3855960" y="9329400"/>
            <a:ext cx="28130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07C3DCC-2A7D-4D1E-AFB3-5BD2B251DE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0FC4C366-B6A3-4A66-81DC-940B7B69B89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2D8722B7-DCEA-435C-BF3A-950D99B83EC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87280" y="709560"/>
            <a:ext cx="453888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F479BB6-34DE-44A6-8C4C-DE5B733F6F3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20BAEB9D-9266-4A67-9524-2EC74B16C7C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0E2494D-2147-486D-BBA7-10EAE3D4137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6B8A577-E5F2-475C-8E1B-F6A60AE8B09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98377B3B-0AED-47A1-8050-BC80466597B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B2B22073-3668-45B6-A41D-8F903DD1C0A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E453276-CBE5-47E7-BD24-02369256A99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433AACF-2BC9-43B8-9080-1D9FB674E79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36C0C718-5F4E-45B1-A5C9-A6794869AD0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41405E6-1D7E-45B2-A72E-0A9BF393689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52560" y="736560"/>
            <a:ext cx="4875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F04075F9-988B-4A45-924B-A8CD6442B93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33A79387-DBE6-4919-BAFA-24000A5FCF3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E745517-DBEF-4420-8C35-88A80FCB87D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9726194-0344-40AF-9910-594D47227B0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F04BE2A6-32AE-4B83-A7EC-4A96827CD6F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65160" y="736560"/>
            <a:ext cx="4778280" cy="3584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3467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F022A83-2F24-4687-BE37-5F722806024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717725C-AC42-46EF-B1FE-52822C8CE86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52560" y="736560"/>
            <a:ext cx="4875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8BC0F37-19EE-4E4E-96B7-72AC72549EB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66960" y="736560"/>
            <a:ext cx="4763880" cy="3573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0760" y="4665240"/>
            <a:ext cx="533556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B322BBBB-983F-4347-B0BF-5669A46D237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5DD90F7-E424-45F6-9322-2A0F2187F9F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87280" y="709560"/>
            <a:ext cx="453888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7D0B484-9570-419F-AF34-DDE3AECCD4A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346AD8DF-6072-447C-8B16-BD4AD631934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BEE9975B-F033-48F0-9D1D-614E31EEBD3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FEB7E11A-392C-446A-8E83-BC881A715D6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C3043FE-89F9-4260-92C2-4B040A864EE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C2D51C0-45B3-42DA-9A11-D3DCAB814F5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57608099-7616-4B1D-9210-662F83A8448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4CB0167D-ED03-47AF-82F6-FBE05B4A3C8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9814C5F6-3F68-4CF9-8601-6801508F606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95F9FAD-2DEE-433E-A915-ADE9EB7E845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2D6472D-0AAF-4A29-9178-EEC26A9E1BC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43080" y="738360"/>
            <a:ext cx="257184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935ACFF-A252-4074-AA20-2199718D770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119533F6-6B24-4498-ACB6-E86BEBE94F7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D6A59B3-50E9-4203-B7A3-3AF464F2670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398E0045-EC20-4609-8960-42F9854CA1D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45AAD5E1-2B37-4369-8E0D-E001EB2D0EC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7847F1C-804D-42AC-B6CE-70C9BF0B749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123B432A-884A-46DF-9750-EBC0D4DC694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08824000-24AA-47F5-A461-417F7F5804C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FD2BC674-E07F-4D58-B561-9C3370FF88B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47880" y="736560"/>
            <a:ext cx="48733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9C7F6368-E39D-4E60-9A64-D2FF126EEFD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1340EDC3-0F91-4025-B682-2B8F7664DC3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65720207-AE2C-46ED-80AB-B4CDE3D3DF2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59D1997-8E6C-48C9-849E-DEE1FC4BD47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6594F73-A9A4-4168-81B3-BED97CE6271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3F21799-1097-4C7F-97A3-43D9FAA1460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0A107981-F346-442A-BA58-AD28C790012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D0D850E-79DF-41C7-8613-74FC0564F64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3651867-8ABD-4D52-9B7C-89D0B9BCDBC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88709544-496A-420D-A559-E91B3859546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3197F62-5AE7-43E9-BC31-E9BAB923F2D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7D53173-442F-4BB6-926E-DAD3855DAF3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B0D21AF4-9BDC-44AE-934D-03D5CCFC5C7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42064AE7-1333-4D12-A350-A1C48BE47C0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F9D65256-59A5-4354-BAA8-D86D1854E63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7D5B35E-967A-4CA3-BE40-B9FEFB1CD4C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80D93EA-DF6A-4B8B-99F1-603F346BB63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D99940B8-D512-4608-9810-D5518E90D13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2639D834-C9D8-4F33-8BD3-46953F6DE71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65F13CB3-AB22-4848-A456-7357C2BB5FD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9A97D9CA-E152-4329-BB66-207B10E2934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2FE33D9E-25AC-4FEC-AE65-F0D90C668B3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F2D570A-42E3-4B45-956B-6465B807BC3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body"/>
          </p:nvPr>
        </p:nvSpPr>
        <p:spPr>
          <a:xfrm>
            <a:off x="680760" y="4665600"/>
            <a:ext cx="5373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309EBB8-A4EC-43CF-96A9-9029A2FA22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A40BDFA4-42D3-4F32-9E27-67C4E5464B4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855960" y="9329760"/>
            <a:ext cx="2832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05A748A8-5DF9-499F-A631-113CC59153F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55960" y="9329760"/>
            <a:ext cx="291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14505D4-EE6F-4751-983D-87EEC157E50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47880" y="73656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681120" y="4665600"/>
            <a:ext cx="5378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619A-70D6-43EB-BF6C-10F5A88C3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23A6-06E8-47DD-897D-81620F6B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ECA8-11BB-4268-845F-032CC81A5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0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856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0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856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6F8C-F21C-4421-9C05-4CF59B16E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9B02-2C62-43FB-B85B-00984A90B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DA1E-A309-44CA-98CE-993772361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C49E-E7DF-4283-8B1F-7F3ADBEFC2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6C05-59D5-44A3-8425-24799DB960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6E62-FA3A-4B21-9E8C-9C4119DC85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63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983D-8FDB-4063-A597-B61EFB979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E0B2-554D-438D-887B-9B56117DC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4DF1-D761-4499-AE17-2CDE3E6A6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0D7A-35C5-48A9-A1A6-E12F941C93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62A6-4C6B-4753-B23B-0336F3E85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1DE9-98D6-4582-947B-9F1C644F9F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E9F2-1FA2-433B-9334-909A8BF23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0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4856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0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4856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1FAC-1C1F-4B5B-8ABA-E71CF16E02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DB271-A57F-498D-8D27-D2DA8B6B2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96A5-B03F-43E3-AFBB-A331522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D0AD-5DBF-4DAF-B5B4-ACDBCBD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CEAC9-F391-43FE-823F-2B331F88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B0D9-B8E2-4D0D-97A6-B8F85C75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8104-669F-4B75-B5F0-CE929B9710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63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D1C8-0199-4306-90C1-C6DE432C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55D91-AA68-40E6-A3D5-8A90615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AE1FF-35A2-4788-8DBD-4FDF9EE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06833-4592-4878-8CA8-F2549BD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AADBE-254E-4421-A8CB-6E37A07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F880-D678-4CB1-981D-282C4A9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700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8560" y="198072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700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8560" y="4135680"/>
            <a:ext cx="24580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0D603-C00A-4521-AA1F-9DB00790A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9B2A-30BB-4240-A94A-006786323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0379-DBEB-4029-8A33-E5634B0FD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6341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4268-DE95-448E-BBF6-017177602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5E8B-7168-4529-AB40-6DD6EA172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560" y="413568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A8D5-A550-46C0-92FA-A7F8F7057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560" y="1980720"/>
            <a:ext cx="372528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5680"/>
            <a:ext cx="7634160" cy="196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8B44-1A8B-4955-8035-09FADFA31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6341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6341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870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6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7668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96B065E8-08CC-4E50-8C6B-02F1D876BCE6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778120" y="0"/>
            <a:ext cx="11858760" cy="3746520"/>
            <a:chOff x="-2778120" y="0"/>
            <a:chExt cx="11858760" cy="3746520"/>
          </a:xfrm>
        </p:grpSpPr>
        <p:sp>
          <p:nvSpPr>
            <p:cNvPr id="42" name=""/>
            <p:cNvSpPr/>
            <p:nvPr/>
          </p:nvSpPr>
          <p:spPr>
            <a:xfrm>
              <a:off x="-2778120" y="685800"/>
              <a:ext cx="4049640" cy="3060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64000" y="32000"/>
                  </a:moveTo>
                  <a:cubicBezTo>
                    <a:pt x="64000" y="49673"/>
                    <a:pt x="49673" y="64000"/>
                    <a:pt x="32000" y="64000"/>
                  </a:cubicBezTo>
                  <a:cubicBezTo>
                    <a:pt x="14326" y="64000"/>
                    <a:pt x="0" y="49673"/>
                    <a:pt x="0" y="32000"/>
                  </a:cubicBezTo>
                  <a:cubicBezTo>
                    <a:pt x="0" y="14326"/>
                    <a:pt x="14326" y="0"/>
                    <a:pt x="32000" y="0"/>
                  </a:cubicBezTo>
                  <a:cubicBezTo>
                    <a:pt x="49673" y="-1"/>
                    <a:pt x="63999" y="14326"/>
                    <a:pt x="64000" y="31999"/>
                  </a:cubicBezTo>
                  <a:lnTo>
                    <a:pt x="64000" y="32000"/>
                  </a:lnTo>
                  <a:cubicBezTo>
                    <a:pt x="64000" y="32000"/>
                    <a:pt x="63999" y="32001"/>
                    <a:pt x="63999" y="32001"/>
                  </a:cubicBezTo>
                  <a:lnTo>
                    <a:pt x="50296" y="32001"/>
                  </a:lnTo>
                  <a:lnTo>
                    <a:pt x="50296" y="31999"/>
                  </a:lnTo>
                  <a:lnTo>
                    <a:pt x="63999" y="31998"/>
                  </a:lnTo>
                  <a:cubicBezTo>
                    <a:pt x="63999" y="31998"/>
                    <a:pt x="64000" y="31999"/>
                    <a:pt x="64000" y="32000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1965240" y="0"/>
              <a:ext cx="3030480" cy="3090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64000" y="32000"/>
                  </a:moveTo>
                  <a:cubicBezTo>
                    <a:pt x="64000" y="49673"/>
                    <a:pt x="49673" y="64000"/>
                    <a:pt x="32000" y="64000"/>
                  </a:cubicBezTo>
                  <a:cubicBezTo>
                    <a:pt x="14326" y="64000"/>
                    <a:pt x="0" y="49673"/>
                    <a:pt x="0" y="32000"/>
                  </a:cubicBezTo>
                  <a:cubicBezTo>
                    <a:pt x="0" y="14326"/>
                    <a:pt x="14326" y="0"/>
                    <a:pt x="32000" y="0"/>
                  </a:cubicBezTo>
                  <a:cubicBezTo>
                    <a:pt x="49673" y="-1"/>
                    <a:pt x="63999" y="14326"/>
                    <a:pt x="64000" y="31999"/>
                  </a:cubicBezTo>
                  <a:lnTo>
                    <a:pt x="64000" y="32000"/>
                  </a:lnTo>
                  <a:cubicBezTo>
                    <a:pt x="64000" y="32000"/>
                    <a:pt x="63999" y="32001"/>
                    <a:pt x="63999" y="32001"/>
                  </a:cubicBezTo>
                  <a:lnTo>
                    <a:pt x="50077" y="32001"/>
                  </a:lnTo>
                  <a:lnTo>
                    <a:pt x="50077" y="31999"/>
                  </a:lnTo>
                  <a:lnTo>
                    <a:pt x="63999" y="31998"/>
                  </a:lnTo>
                  <a:cubicBezTo>
                    <a:pt x="63999" y="31998"/>
                    <a:pt x="64000" y="31999"/>
                    <a:pt x="64000" y="32000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30240" y="1523880"/>
              <a:ext cx="725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76320"/>
            <a:ext cx="721188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21188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8520"/>
            <a:ext cx="2052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2640" y="6248520"/>
            <a:ext cx="2814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1280" y="6248520"/>
            <a:ext cx="20336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</a:pPr>
            <a:fld id="{F6DBB5B2-F9D5-4D48-80F4-B6F788EC54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08764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7/08/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08764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0720"/>
                <a:tab algn="l" pos="144468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331280"/>
                <a:tab algn="l" pos="10780560"/>
                <a:tab algn="l" pos="10782360"/>
              </a:tabLst>
            </a:pPr>
            <a:fld id="{1099D37B-4F06-4335-8753-E1D20B891251}" type="slidenum">
              <a:rPr b="0" lang="pt-B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2448000"/>
            <a:ext cx="809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879640"/>
            <a:ext cx="612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3887640"/>
            <a:ext cx="72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439272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0720" y="486108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720" y="536580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0720" y="3421080"/>
            <a:ext cx="72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58480" y="181080"/>
            <a:ext cx="395568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Arial Black"/>
              </a:rPr>
              <a:t>CONSTRUINDO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Arial Black"/>
              </a:rPr>
              <a:t>ORÇAMENTO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Arial Black"/>
              </a:rPr>
              <a:t>ASSISTÊNCIA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Arial Black"/>
              </a:rPr>
              <a:t>2021/SETEMB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4720" y="3573360"/>
            <a:ext cx="846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6040440"/>
            <a:ext cx="633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189000"/>
            <a:ext cx="7667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900000"/>
            <a:ext cx="828036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Mobilização Soci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20680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Audiência com secretário de planejamento com os outros secretários para discutir plano de 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20680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Audiência pública na Câmara Municipal para discussão da proposta ( previsto na Lei Complementar n.º 101/00, art.48, Parágrafo Único)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20680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 Audiência pública anual para avaliação do cumprimento do PP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16000" y="18900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ff0000"/>
                </a:solidFill>
                <a:latin typeface="Bookman Old Style"/>
              </a:rPr>
              <a:t>LDO – LEI DE DIRETRIZES ORÇAMENTÁR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628640"/>
            <a:ext cx="78483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4040" y="1933560"/>
            <a:ext cx="82659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Estabelece as metas e prioridades da Administração Pública para o exercício seguinte, servindo de elo de ligação entre o PPA e a LOA para as despesas de capital e de programas de natureza continuada, cuja execução seja superior a um exercício financeiro; Contém regras para a elaboração da LO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A LDO é reforçada na LRF (Lei de Responsabilidade Fiscal)pela incorporação do Anexo de Metas Fiscais e do Anexo de Riscos Fiscais, onde são estabelecidas pelo ente da federação as metas pretendidas  no orçamento e os riscos que  poderão prejudicar o alcance das referidas met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73080" y="55080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Browallia New"/>
              </a:rPr>
              <a:t>Documentos que dão diretrizes para a Lei de Diretrizes Orçamentá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1260360"/>
            <a:ext cx="763272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ei Complementar 101/0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: estabelecer as principais exigências para estruturação da LD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stituição Federal/88-Constituição cidadã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belecer que a LDO deve conter metas, prioridades e diretrizes para elaboração da Lei Orçamento Anual (LOA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lano Plurianual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ontém os programas e as ações para o período de quatro anos a partir dos quais a LDO deve priorizar ações na LO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16000" y="18900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rowallia New"/>
              </a:rPr>
              <a:t>MOBILIZAÇÃO SOC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720720"/>
            <a:ext cx="763272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Audiência com o Secretários saúde, educação ,assistência social e outros para discutir diretrizes para  serem incluídas na L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Audiência pública na Câmara Municipal para discussão do projeto lei ( previsto na lei complementar 101/00,art.48º, parágrafo Únic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Audiência pública bimestral na Câmara Municipal para avaliação do cumprimento das metas orçamentárias (previsto na Lei Complementar 101/00, art.9º,§ 4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87280" y="1079640"/>
            <a:ext cx="29530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465300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260280"/>
            <a:ext cx="813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ookman Old Style"/>
              </a:rPr>
              <a:t>PRINCÍPIOS ORÇAMENTÁR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ookman Old Style"/>
              </a:rPr>
              <a:t>CLÁS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Anualidade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Orçamento deve ser programado e executado para um exerc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Unidade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 administração deve possuir somente uma única peça orçamentá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Universalida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 O orçamento deve conter todas as receitas e despesas de todos os poderes e entidades da administração pú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Equilíbrio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Estabelece que as despesas não devem ultrapassar as receitas previst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Exclusivida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 Orçamento deve conter apenas matéria financeira não contendo assuntos estranhos  a previsão da receita e fixação da desp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Publicidade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Orçamento deve ser publicado no Diário Oficial, na internet e em outros meios de divulgação para dar ampla divulgação à socieda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ompatibilidade : Reza que deve haver compatibilidade de objetivos entre o PPA, a LDO e a LOA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Legalidade Tribu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: A Administração pública não pode aprovar o imposto e executar no orçamento do mesmo exercíci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 u="sng">
                <a:solidFill>
                  <a:srgbClr val="ff0000"/>
                </a:solidFill>
                <a:uFillTx/>
                <a:latin typeface="Arial"/>
              </a:rPr>
              <a:t>Precedência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PPA, LDO e a LOA são elaborados em um exercício financeiro e executado no ano referent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8200" y="1717560"/>
            <a:ext cx="36018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2271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29844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340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928224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16000" y="189000"/>
            <a:ext cx="7667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Bookman Old Style"/>
              </a:rPr>
              <a:t>LOA -LEI ORÇAMENTÁRIA AN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162864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1538280"/>
            <a:ext cx="8064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ei Orçamentária Anual é o instrumento de planejamento utilizado pelo governo para gerenciar as receitas e despesas públicas em cada exercício financeiro. A LOA é também conhecida como Lei de Meios e representa o principal instrumento orçamentário, haja vista que sem ela o administrador não recebe autorização para execução do orç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16000" y="189000"/>
            <a:ext cx="7667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ookman Old Style"/>
              </a:rPr>
              <a:t>LOA – Lei de orçamentária An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161928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ocumentos que dão diretrizes à execução orçamentá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Lei 4.320/64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onstituição Fede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Lei de Diretrizes Orçamentária(LDO).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360" y="198360"/>
            <a:ext cx="89805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ookman Old Style"/>
              </a:rPr>
              <a:t>Estrutura do Planejamento Conforme a CF/8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5200" y="1603440"/>
            <a:ext cx="8089920" cy="4190760"/>
            <a:chOff x="295200" y="1603440"/>
            <a:chExt cx="8089920" cy="4190760"/>
          </a:xfrm>
        </p:grpSpPr>
        <p:sp>
          <p:nvSpPr>
            <p:cNvPr id="277" name=""/>
            <p:cNvSpPr/>
            <p:nvPr/>
          </p:nvSpPr>
          <p:spPr>
            <a:xfrm>
              <a:off x="2689200" y="1603440"/>
              <a:ext cx="312120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Plano Plurianual (4 Ano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5200" y="332280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(1º ano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82840" y="3322800"/>
              <a:ext cx="182412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(2º ano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71920" y="332280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(3º ano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59560" y="332280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(4º ano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200" y="483228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LO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alibri"/>
                </a:rPr>
                <a:t>(1º ano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2840" y="4832280"/>
              <a:ext cx="182412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2º an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1920" y="483228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3º an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9560" y="4832280"/>
              <a:ext cx="1825560" cy="9619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4º an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/>
            <p:nvPr/>
          </p:nvCxnSpPr>
          <p:spPr>
            <a:xfrm>
              <a:off x="1231560" y="4329000"/>
              <a:ext cx="1080" cy="502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3323880" y="4329000"/>
              <a:ext cx="1080" cy="502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5419440" y="4329000"/>
              <a:ext cx="1080" cy="502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89" name=""/>
            <p:cNvCxnSpPr/>
            <p:nvPr/>
          </p:nvCxnSpPr>
          <p:spPr>
            <a:xfrm>
              <a:off x="7515000" y="4329000"/>
              <a:ext cx="1080" cy="502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1231920" y="2889360"/>
              <a:ext cx="623736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/>
            <p:nvPr/>
          </p:nvCxnSpPr>
          <p:spPr>
            <a:xfrm>
              <a:off x="1231560" y="2889000"/>
              <a:ext cx="1080" cy="386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92" name=""/>
            <p:cNvCxnSpPr/>
            <p:nvPr/>
          </p:nvCxnSpPr>
          <p:spPr>
            <a:xfrm>
              <a:off x="3335040" y="2889000"/>
              <a:ext cx="1080" cy="386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>
              <a:off x="5406840" y="2878200"/>
              <a:ext cx="1080" cy="418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cxnSp>
          <p:nvCxnSpPr>
            <p:cNvPr id="294" name=""/>
            <p:cNvCxnSpPr/>
            <p:nvPr/>
          </p:nvCxnSpPr>
          <p:spPr>
            <a:xfrm>
              <a:off x="7511760" y="2889000"/>
              <a:ext cx="1080" cy="386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round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4272120" y="2611440"/>
              <a:ext cx="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16000" y="863640"/>
            <a:ext cx="8640720" cy="4140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79280" y="5472000"/>
            <a:ext cx="8640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355e00"/>
                </a:solidFill>
                <a:latin typeface="Bookman Old Style"/>
              </a:rPr>
              <a:t>Estes prazos de encaminhamentos de devolução dos instrumentos de planejamento e orçamento “UNIÃO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079640" y="360360"/>
            <a:ext cx="701964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LAÇÃO ENTRE AS LEIS ORÇAMENT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1640" y="1260360"/>
            <a:ext cx="820764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;Arial"/>
                <a:ea typeface="Arial;Arial"/>
              </a:rPr>
              <a:t>Os programas do PPA têm metas e indicadores qua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3503520"/>
            <a:ext cx="6659280" cy="63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LDO explicita metas e prioridades para cada 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5483160"/>
            <a:ext cx="7199280" cy="63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LOA prevê recursos para sua exec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140360" y="2340000"/>
            <a:ext cx="720720" cy="900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72072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879640"/>
            <a:ext cx="612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0720" y="3887640"/>
            <a:ext cx="72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Bookman Old Styl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39272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0720" y="486108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0720" y="5365800"/>
            <a:ext cx="72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08000" y="3419640"/>
            <a:ext cx="34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E G A L I D A D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08000" y="3887640"/>
            <a:ext cx="435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M P E S S O A L I D A D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08000" y="4413240"/>
            <a:ext cx="3672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O R A L I D A D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08000" y="4869000"/>
            <a:ext cx="36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 B L I C I D A D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08000" y="5373720"/>
            <a:ext cx="3672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F I C I Ê N C I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0720" y="3421080"/>
            <a:ext cx="72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Bookman Old Styl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4560" y="1152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Arial Black"/>
              </a:rPr>
              <a:t>Princípios orientadores da Administração Pública, uma vez que os recursos são públicos. Princípios Constitucionais (Art. 37, CF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443320"/>
            <a:ext cx="705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355e00"/>
                </a:solidFill>
                <a:latin typeface="Bookman Old Style"/>
              </a:rPr>
              <a:t>PRINCÍPIOS DA ADMINISTRACÃO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80000" y="6480000"/>
            <a:ext cx="234000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8728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CRÉDITOS ADICIONA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80920" y="1916280"/>
            <a:ext cx="80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355e00"/>
                </a:solidFill>
                <a:latin typeface="Arial"/>
              </a:rPr>
              <a:t>Suplement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inados ao reforço da dotação orçament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85960" y="2998800"/>
            <a:ext cx="78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355e00"/>
                </a:solidFill>
                <a:latin typeface="Arial"/>
              </a:rPr>
              <a:t>Especiais</a:t>
            </a:r>
            <a:r>
              <a:rPr b="1" lang="pt-BR" sz="2400" spc="-1" strike="noStrike">
                <a:solidFill>
                  <a:srgbClr val="355e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inados as despesas para as ações não haja Dotação orçamentária especí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438300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355e00"/>
                </a:solidFill>
                <a:latin typeface="Arial"/>
              </a:rPr>
              <a:t>Extraordiná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inados as despesas urgentes e imprevis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62080" y="173160"/>
            <a:ext cx="7956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500" spc="-1" strike="noStrike">
                <a:solidFill>
                  <a:srgbClr val="355e00"/>
                </a:solidFill>
                <a:latin typeface="Bookman Old Style"/>
              </a:rPr>
              <a:t>FUNDO DE ASSISTÊNCIA SOCI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3800" y="1258920"/>
            <a:ext cx="80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LEI ORGÂNICA DE ASSISTÊNCIA SOCIAL - LOAS Nº 8742 DE 07 DE DEZEMBRO DE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450864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posta orçamentária do Fundo de Assistência Social constará das Políticas e Programas Anuais e Plurianuais do Governo e será submetida à apreciação do Conselho de Assistência Social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rçamento da Assistência Social  integrará o orçamento da Seguridade So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4968720"/>
            <a:ext cx="6248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2444760"/>
            <a:ext cx="85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000" spc="-1" strike="noStrike">
                <a:solidFill>
                  <a:srgbClr val="355e00"/>
                </a:solidFill>
                <a:latin typeface="Arial"/>
              </a:rPr>
              <a:t>ARTIGO 30°- PARÁGRAFO Ú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inda condição para transferência de recursos do FNAS aos Estados, ao Distrito Federal e aos Municípios a comprovação orçamentária dos recursos próprios destinados à ASSISTÊNCIA SOCIAL alocados em seus respectivos Fundos de Assistência Social, a partir do exercício de 1999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40360" y="5219640"/>
            <a:ext cx="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3640" y="5486400"/>
            <a:ext cx="801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9640" y="360360"/>
            <a:ext cx="846000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95. A seguridade social será financiada por toda a sociedade, de forma         direta e indireta, nos termos da lei, mediante recursos provenientes dos                 orçamentos da União, dos Estados, do Distrito Federal e dos Municípios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355e00"/>
                </a:solidFill>
                <a:latin typeface="Arial"/>
                <a:ea typeface="Times New Roman"/>
              </a:rPr>
              <a:t>RECURSOS DA UNIÃO PARA FINANCIAR A ASSISTÊ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ECURSOS PRORI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OPERAÇÕES DE CRÉDIT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CSLL-CONITRBUIÇÃO SOBRE O LUCRO LIQUIDO JURÍDIC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CONTRIBUIÇÃO FINANCIAMENTO DA SEGURIDADE SOCIAL-COFI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RESTITUIÇÃO DE CONVÊNI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LEILÕES DA RECEITA FEDERAL(40%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FUNDO DE COMBATE A ERRADICAÇÃO DA POBREZ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PROGNÓSTICOS DE CONCURSOS( LOTERI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96760" y="2332080"/>
            <a:ext cx="332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284796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863640"/>
            <a:ext cx="84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600" spc="-1" strike="noStrike">
                <a:solidFill>
                  <a:srgbClr val="355e00"/>
                </a:solidFill>
                <a:latin typeface="Arial"/>
              </a:rPr>
              <a:t>QUEM FINANCIA À ASSISTÊNCIA SOCIAL NO  ESTADO DO CEARÁ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DO TESOU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DO M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DO SE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DO FEC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9640" y="523800"/>
            <a:ext cx="85741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TA PÚBLICA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1260360"/>
            <a:ext cx="777240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47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4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4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0360" y="1800360"/>
            <a:ext cx="828036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Receita Pública é a soma de ingressos, impostos,taxas, contribuições (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TRIBUTOS)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e outras fontes de recursos, arrecadados para atender às despesas pública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00000" y="720720"/>
            <a:ext cx="727416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Arial"/>
              </a:rPr>
              <a:t>DESPESA PÚBL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É o conjunto de dispêndios realizados pelos entes públicos para custear os serviços públicos (despesas correntes) prestados à sociedade ou para a realização de investimentos (despesas de capita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71640" y="2457360"/>
            <a:ext cx="1414440" cy="673200"/>
          </a:xfrm>
          <a:prstGeom prst="rect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92360" y="3141720"/>
            <a:ext cx="1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3640" y="2841480"/>
            <a:ext cx="1440" cy="13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2852640"/>
            <a:ext cx="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2852640"/>
            <a:ext cx="180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12000" y="2852640"/>
            <a:ext cx="180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9920" y="3716280"/>
            <a:ext cx="124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CATEGORI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CONÔMIC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2200" y="4221000"/>
            <a:ext cx="10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GRUPO 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DESPES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67280" y="4581360"/>
            <a:ext cx="144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MODALIDA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DE APLIC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84760" y="4941720"/>
            <a:ext cx="119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ELE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DE DEPES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3760" y="5229360"/>
            <a:ext cx="93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TEM D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DESPES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115920"/>
            <a:ext cx="81010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Arial"/>
              </a:rPr>
              <a:t>ESTRUTURA 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Arial"/>
              </a:rPr>
              <a:t>NATUREZA DA DESPE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965920"/>
            <a:ext cx="7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1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9659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2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5950080"/>
            <a:ext cx="6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3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595008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4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2320" y="5943600"/>
            <a:ext cx="7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5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86560" y="59436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6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03840" y="5950080"/>
            <a:ext cx="6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7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2280" y="5950080"/>
            <a:ext cx="73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8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1676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Bookman Old Style"/>
              </a:rPr>
              <a:t>PORTARIA INTERNA Nº 163 DE 04.05.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02000" y="2468520"/>
            <a:ext cx="1414440" cy="673200"/>
          </a:xfrm>
          <a:prstGeom prst="rect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52880" y="2457360"/>
            <a:ext cx="1414440" cy="673200"/>
          </a:xfrm>
          <a:prstGeom prst="rect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76760" y="2457360"/>
            <a:ext cx="1414440" cy="673200"/>
          </a:xfrm>
          <a:prstGeom prst="rect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01000" y="2457360"/>
            <a:ext cx="1414440" cy="673200"/>
          </a:xfrm>
          <a:prstGeom prst="rect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71640" y="260280"/>
            <a:ext cx="79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5800" y="2344680"/>
            <a:ext cx="7127640" cy="303552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01840" y="2112840"/>
            <a:ext cx="6300720" cy="306360"/>
          </a:xfrm>
          <a:prstGeom prst="roundRect">
            <a:avLst>
              <a:gd name="adj" fmla="val 5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11440" y="2341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86" y="0"/>
                </a:moveTo>
                <a:arcTo wR="186" hR="186" stAng="16200000" swAng="-5400000"/>
                <a:lnTo>
                  <a:pt x="0" y="98940"/>
                </a:lnTo>
                <a:arcTo wR="186" hR="186" stAng="10800000" swAng="-5400000"/>
                <a:lnTo>
                  <a:pt x="21414" y="9912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42840" y="2584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6400" y="2684520"/>
            <a:ext cx="3883320" cy="431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4128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152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020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14520" y="318276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080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8876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4496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49440" y="346248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1268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1888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8876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4496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5352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346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0600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758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4756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88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876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5744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5352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346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0600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758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756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188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8876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0364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352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346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758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4756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188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876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1460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5352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346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600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758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475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188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87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049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5352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346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0600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758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4756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188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8876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8760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5352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346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0600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758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756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188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8876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1440" y="5092560"/>
            <a:ext cx="1440" cy="276480"/>
          </a:xfrm>
          <a:custGeom>
            <a:avLst/>
            <a:gdLst/>
            <a:ahLst/>
            <a:rect l="l" t="t" r="r" b="b"/>
            <a:pathLst>
              <a:path w="21600" h="3322080">
                <a:moveTo>
                  <a:pt x="10800" y="0"/>
                </a:moveTo>
                <a:arcTo wR="10800" hR="10800" stAng="16200000" swAng="-5400000"/>
                <a:lnTo>
                  <a:pt x="0" y="3311280"/>
                </a:lnTo>
                <a:arcTo wR="10800" hR="10800" stAng="10800000" swAng="-5400000"/>
                <a:lnTo>
                  <a:pt x="10800" y="332208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2900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" y="1728720"/>
            <a:ext cx="88520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09600" indent="-243000">
              <a:lnSpc>
                <a:spcPct val="100000"/>
              </a:lnSpc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3300" spc="-1" strike="noStrike">
                <a:solidFill>
                  <a:srgbClr val="355e00"/>
                </a:solidFill>
                <a:latin typeface="Arial"/>
              </a:rPr>
              <a:t>Finalidade principal: 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dar indicações sobre o efeito que o gasto público tem sobre a economia como um todo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3300" spc="-1" strike="noStrike">
                <a:solidFill>
                  <a:srgbClr val="355e00"/>
                </a:solidFill>
                <a:latin typeface="Arial"/>
              </a:rPr>
              <a:t>É constituída por</a:t>
            </a:r>
            <a:r>
              <a:rPr b="0" lang="pt-BR" sz="3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300" spc="-1" strike="noStrike" u="sng">
                <a:solidFill>
                  <a:srgbClr val="000000"/>
                </a:solidFill>
                <a:uFillTx/>
                <a:latin typeface="Arial"/>
              </a:rPr>
              <a:t>duas </a:t>
            </a:r>
            <a:r>
              <a:rPr b="0" lang="pt-BR" sz="3300" spc="-1" strike="noStrike">
                <a:solidFill>
                  <a:srgbClr val="355e00"/>
                </a:solidFill>
                <a:latin typeface="Arial"/>
              </a:rPr>
              <a:t>categorias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33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0" lang="pt-BR" sz="3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3.  Despesas Corrente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4.  Despesas de Capit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60720" y="452520"/>
            <a:ext cx="4751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Arial"/>
              </a:rPr>
              <a:t>Categorias Econômic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71640" y="260280"/>
            <a:ext cx="79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55800" y="2344680"/>
            <a:ext cx="7127640" cy="303552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01840" y="2112840"/>
            <a:ext cx="6300720" cy="306360"/>
          </a:xfrm>
          <a:prstGeom prst="roundRect">
            <a:avLst>
              <a:gd name="adj" fmla="val 5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11440" y="2341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86" y="0"/>
                </a:moveTo>
                <a:arcTo wR="186" hR="186" stAng="16200000" swAng="-5400000"/>
                <a:lnTo>
                  <a:pt x="0" y="98940"/>
                </a:lnTo>
                <a:arcTo wR="186" hR="186" stAng="10800000" swAng="-5400000"/>
                <a:lnTo>
                  <a:pt x="21414" y="9912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42840" y="2584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6400" y="2684520"/>
            <a:ext cx="3883320" cy="431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4128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3152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60200" y="2860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14520" y="318276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080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8876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44960" y="3139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49440" y="346248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1268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1888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8876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95720" y="3421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5352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346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0600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758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4756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1888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8876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57440" y="3699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352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346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0600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758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4756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88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8876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03640" y="39783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5352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46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758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4756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1888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8876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14600" y="42559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5352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346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0600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758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475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1888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887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04960" y="45356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5352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346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0600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758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756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1888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8876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887600" y="48150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5352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346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0600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758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4756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1888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8876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51440" y="5092560"/>
            <a:ext cx="1440" cy="276480"/>
          </a:xfrm>
          <a:custGeom>
            <a:avLst/>
            <a:gdLst/>
            <a:ahLst/>
            <a:rect l="l" t="t" r="r" b="b"/>
            <a:pathLst>
              <a:path w="21600" h="3322080">
                <a:moveTo>
                  <a:pt x="10800" y="0"/>
                </a:moveTo>
                <a:arcTo wR="10800" hR="10800" stAng="16200000" swAng="-5400000"/>
                <a:lnTo>
                  <a:pt x="0" y="3311280"/>
                </a:lnTo>
                <a:arcTo wR="10800" hR="10800" stAng="10800000" swAng="-5400000"/>
                <a:lnTo>
                  <a:pt x="10800" y="332208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29000" y="50925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14600" y="1295280"/>
            <a:ext cx="6070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355e00"/>
                </a:solidFill>
                <a:latin typeface="Verdana"/>
              </a:rPr>
              <a:t>[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3. Despesas Correntes]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1. Pessoal e Encargos Socia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2. Juros e Encargos da Dívid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3. Outras Despesas Corrent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[4. Despesas de Capital]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4. Investimento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5. Inversões Financeira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09600" indent="-2430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06360"/>
                <a:tab algn="l" pos="754200"/>
                <a:tab algn="l" pos="1203480"/>
                <a:tab algn="l" pos="1652760"/>
                <a:tab algn="l" pos="2101680"/>
                <a:tab algn="l" pos="2550960"/>
                <a:tab algn="l" pos="3000240"/>
                <a:tab algn="l" pos="3449520"/>
                <a:tab algn="l" pos="3898800"/>
                <a:tab algn="l" pos="4348080"/>
                <a:tab algn="l" pos="4800600"/>
                <a:tab algn="l" pos="5246640"/>
                <a:tab algn="l" pos="5695920"/>
                <a:tab algn="l" pos="6145200"/>
                <a:tab algn="l" pos="6594480"/>
                <a:tab algn="l" pos="7043760"/>
                <a:tab algn="l" pos="7493040"/>
                <a:tab algn="l" pos="7942320"/>
                <a:tab algn="l" pos="8391600"/>
                <a:tab algn="l" pos="8840880"/>
                <a:tab algn="l" pos="9290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ff0000"/>
                </a:solidFill>
                <a:latin typeface="Arial"/>
              </a:rPr>
              <a:t>6. Amortização da Dívid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4720" y="360360"/>
            <a:ext cx="1968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400" spc="-1" strike="noStrike">
                <a:solidFill>
                  <a:srgbClr val="ff0000"/>
                </a:solidFill>
                <a:latin typeface="Arial"/>
              </a:rPr>
              <a:t>Grupos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507960"/>
            <a:ext cx="7732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Arial"/>
              </a:rPr>
              <a:t>MODALIDADE DE APLICAÇÃO</a:t>
            </a:r>
            <a:r>
              <a:rPr b="1" i="1" lang="pt-BR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200" y="1984320"/>
            <a:ext cx="773244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50-TRANSFERÊNCIAS A INSTITUIÇÕES PRIVADAS SEM FINS LUCRATIV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90- APLICAÇÕES DIRET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40 - TRANSFERÊNCIAS A MUNICI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41 - TRANSFERÊNCIA A MUNICÍPIO (FUNDO A FUNDO)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24000" y="792000"/>
            <a:ext cx="7159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Arial"/>
              </a:rPr>
              <a:t>Torna-se fundamental que: </a:t>
            </a:r>
            <a:br>
              <a:rPr sz="4000"/>
            </a:br>
            <a:r>
              <a:rPr b="1" i="1" lang="pt-BR" sz="4000" spc="-1" strike="noStrike">
                <a:solidFill>
                  <a:srgbClr val="355e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401840"/>
            <a:ext cx="77724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atores que desempenham algum papel na gestão e no controles públicos se apropriem das informações afetas a essa temática, buscando conhecer as novas configurações e exigências postas pela área, o que é orçamento, os instrumentos do planejamento orçamentário, os princípios orçamentários, a legislação e características referentes aos fundos especiais, dentre os quais se situam os fundos  que executam políticas públ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920" indent="-24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7680" indent="-2476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ses ator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conhecer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strumentos de planejamento na administração pública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se familiarizem com a linguagem orçamentár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920" indent="-24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92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00000" y="179280"/>
            <a:ext cx="7274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Bookman Old Style"/>
              </a:rPr>
              <a:t>EMPEN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ometimento efetivo das dotações orçamentárias;confere ao recurso orçamentário provisionado o status de valor empenhado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Empenh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dinár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: É utilizado quando se conhece exato da desp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imativ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: É utilizado quando não se conhece a priore o valor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Glob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: Quando o valor é previamente estabelecido e que possam ser pagas parcelad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00000" y="1079640"/>
            <a:ext cx="7274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Arial"/>
              </a:rPr>
              <a:t>LIQUIDA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quidação consiste na verificação do direito do credor, pelos fornecimentos feitos ou serviços prestados, à vista dos títulos e documentos comprobatórios do respectivo crédi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079640" y="936720"/>
            <a:ext cx="7273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600" spc="-1" strike="noStrike">
                <a:solidFill>
                  <a:srgbClr val="355e00"/>
                </a:solidFill>
                <a:latin typeface="Arial"/>
              </a:rPr>
              <a:t>PAG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gamento corresponde ao desembolso financeiro em favor do credor, o qual só será efetuado quando ordenado, após sua regular liquid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7280" y="4363920"/>
            <a:ext cx="8099640" cy="197172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803160" y="4859280"/>
            <a:ext cx="8293320" cy="1362600"/>
            <a:chOff x="803160" y="4859280"/>
            <a:chExt cx="8293320" cy="1362600"/>
          </a:xfrm>
        </p:grpSpPr>
        <p:sp>
          <p:nvSpPr>
            <p:cNvPr id="494" name=""/>
            <p:cNvSpPr/>
            <p:nvPr/>
          </p:nvSpPr>
          <p:spPr>
            <a:xfrm>
              <a:off x="1243080" y="5154480"/>
              <a:ext cx="5292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100001 . 08 . 122 . 400 . 20324 .22 .  319011 . M .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100001 . 08 . 122 . 400.  20324. 22 .  339039 . M. 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100001 . 08 . 122 . 400 . 20324. 22 .  339030.  M . 0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3160" y="4859280"/>
              <a:ext cx="829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S.F     PG       PA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nodeType="clickEffect" fill="hold">
                      <p:stCondLst>
                        <p:cond delay="0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9640" y="4500720"/>
            <a:ext cx="7740720" cy="180000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18920" y="4824360"/>
            <a:ext cx="6994800" cy="1605960"/>
            <a:chOff x="1618920" y="4824360"/>
            <a:chExt cx="6994800" cy="1605960"/>
          </a:xfrm>
        </p:grpSpPr>
        <p:sp>
          <p:nvSpPr>
            <p:cNvPr id="501" name=""/>
            <p:cNvSpPr/>
            <p:nvPr/>
          </p:nvSpPr>
          <p:spPr>
            <a:xfrm>
              <a:off x="1618920" y="5119560"/>
              <a:ext cx="5539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38200002 . 10 . 301 . 022 . </a:t>
              </a:r>
              <a:r>
                <a:rPr b="0" lang="pt-BR" sz="1600" spc="-1" strike="noStrike">
                  <a:solidFill>
                    <a:srgbClr val="ff0000"/>
                  </a:solidFill>
                  <a:latin typeface="Verdana"/>
                </a:rPr>
                <a:t>20555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.  08.   339030  F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38200002.  10.  301.  022.  </a:t>
              </a:r>
              <a:r>
                <a:rPr b="0" lang="pt-BR" sz="1600" spc="-1" strike="noStrike">
                  <a:solidFill>
                    <a:srgbClr val="ff0000"/>
                  </a:solidFill>
                  <a:latin typeface="Verdana"/>
                </a:rPr>
                <a:t>10555.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08.   449051. E    1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38200002.  10.  301.  022.  10555.   08.   449052. M   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9800" y="4824360"/>
              <a:ext cx="670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Func.  S.F     PG       PA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nodeType="clickEffect" fill="hold">
                      <p:stCondLst>
                        <p:cond delay="0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7280" y="4140360"/>
            <a:ext cx="7920000" cy="233964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49360" y="4859280"/>
            <a:ext cx="8282160" cy="1362600"/>
            <a:chOff x="1449360" y="4859280"/>
            <a:chExt cx="8282160" cy="1362600"/>
          </a:xfrm>
        </p:grpSpPr>
        <p:sp>
          <p:nvSpPr>
            <p:cNvPr id="508" name=""/>
            <p:cNvSpPr/>
            <p:nvPr/>
          </p:nvSpPr>
          <p:spPr>
            <a:xfrm>
              <a:off x="1815840" y="5154480"/>
              <a:ext cx="5345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57200002 . 12 . 363 . 713 . 10124 . 02 . 449051 .  F .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57200002 . 12 . 363 . 713.  10124.  02.  449052 .  M. 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57200002 . 12 . 306 . 713 . 20340.  02 . 339030  . M . 0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49360" y="4859280"/>
              <a:ext cx="828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S.F     PG       PA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nodeType="clickEffect" fill="hold">
                      <p:stCondLst>
                        <p:cond delay="0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0360" y="4508640"/>
            <a:ext cx="7380360" cy="197136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03160" y="4859280"/>
            <a:ext cx="8290080" cy="1362600"/>
            <a:chOff x="803160" y="4859280"/>
            <a:chExt cx="8290080" cy="1362600"/>
          </a:xfrm>
        </p:grpSpPr>
        <p:sp>
          <p:nvSpPr>
            <p:cNvPr id="515" name=""/>
            <p:cNvSpPr/>
            <p:nvPr/>
          </p:nvSpPr>
          <p:spPr>
            <a:xfrm>
              <a:off x="1243080" y="5154480"/>
              <a:ext cx="5292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 . 08 . 243 . 713 . 10124 . 02 . 449051 .  F .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 . 08 . 243 . 713.  10124.  02.  449052 .  M. 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 . 08 . 243 . 713 . 20340.  02 . 339030  . M  .0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3160" y="4859280"/>
              <a:ext cx="829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S.F     PG       PA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nodeType="clickEffect" fill="hold">
                      <p:stCondLst>
                        <p:cond delay="0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9640" y="4437000"/>
            <a:ext cx="7417080" cy="211608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01800" y="4896000"/>
            <a:ext cx="7707240" cy="1605960"/>
            <a:chOff x="901800" y="4896000"/>
            <a:chExt cx="7707240" cy="1605960"/>
          </a:xfrm>
        </p:grpSpPr>
        <p:sp>
          <p:nvSpPr>
            <p:cNvPr id="522" name=""/>
            <p:cNvSpPr/>
            <p:nvPr/>
          </p:nvSpPr>
          <p:spPr>
            <a:xfrm>
              <a:off x="901800" y="5191200"/>
              <a:ext cx="6589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3 . 08 .   242 . 022 . 10778 .  22 .  335043 . D .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3.  08.    242.  022.  10775.   22.   335041.  D.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3.  08.    242.  022.  10775.   22.   445042.  D.  1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84360" y="4896000"/>
              <a:ext cx="70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Func.  S.F     PG      PA   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0720" y="4508640"/>
            <a:ext cx="7738920" cy="169992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803160" y="4859280"/>
            <a:ext cx="8277480" cy="1362600"/>
            <a:chOff x="803160" y="4859280"/>
            <a:chExt cx="8277480" cy="1362600"/>
          </a:xfrm>
        </p:grpSpPr>
        <p:sp>
          <p:nvSpPr>
            <p:cNvPr id="529" name=""/>
            <p:cNvSpPr/>
            <p:nvPr/>
          </p:nvSpPr>
          <p:spPr>
            <a:xfrm>
              <a:off x="1315080" y="5154480"/>
              <a:ext cx="5052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60200002 . 16 . 482 . 020 . 10356 .01 .  449051 . F .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160" y="4859280"/>
              <a:ext cx="827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S.F     PG       PA      Reg.    Desp.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63640" y="4392720"/>
            <a:ext cx="7596000" cy="181584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216080" y="4859280"/>
            <a:ext cx="8288280" cy="1362600"/>
            <a:chOff x="1216080" y="4859280"/>
            <a:chExt cx="8288280" cy="1362600"/>
          </a:xfrm>
        </p:grpSpPr>
        <p:sp>
          <p:nvSpPr>
            <p:cNvPr id="536" name=""/>
            <p:cNvSpPr/>
            <p:nvPr/>
          </p:nvSpPr>
          <p:spPr>
            <a:xfrm>
              <a:off x="1522080" y="5154480"/>
              <a:ext cx="554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24200002 .  13 .  392 . 022 . 10666 .  22 .   335043 . E .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6080" y="4859280"/>
              <a:ext cx="828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Func.  S.F     PG       PA         Reg.    Desp.  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60360" y="1079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355e00"/>
                </a:solidFill>
                <a:latin typeface="Arial"/>
                <a:ea typeface="Arial"/>
              </a:rPr>
              <a:t>Mas isso, ainda é um desafio, porque </a:t>
            </a:r>
            <a:r>
              <a:rPr b="0" lang="pt-BR" sz="2400" spc="-1" strike="noStrike">
                <a:solidFill>
                  <a:srgbClr val="355e00"/>
                </a:solidFill>
                <a:latin typeface="Arial"/>
                <a:ea typeface="Arial"/>
              </a:rPr>
              <a:t>o </a:t>
            </a:r>
            <a:r>
              <a:rPr b="1" lang="pt-BR" sz="2400" spc="-1" strike="noStrike">
                <a:solidFill>
                  <a:srgbClr val="355e00"/>
                </a:solidFill>
                <a:latin typeface="Arial"/>
                <a:ea typeface="Arial"/>
              </a:rPr>
              <a:t>Planejamento técnico e financei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em sido tradicionalmente tratado como tema de competência exclusiva de especialistas das áreas contábil, administrativa, financeira, considerado de difícil compreensão para os leigos poderem opinar, participar e acompanh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s princípios da clareza, publicidade, discriminação, entre outros, precisam, de fato, ser efetiv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6920" y="52624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54200" y="4116240"/>
            <a:ext cx="7597800" cy="234000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538280" y="4730760"/>
            <a:ext cx="8288280" cy="1605960"/>
            <a:chOff x="1538280" y="4730760"/>
            <a:chExt cx="8288280" cy="1605960"/>
          </a:xfrm>
        </p:grpSpPr>
        <p:sp>
          <p:nvSpPr>
            <p:cNvPr id="543" name=""/>
            <p:cNvSpPr/>
            <p:nvPr/>
          </p:nvSpPr>
          <p:spPr>
            <a:xfrm>
              <a:off x="1899360" y="5025960"/>
              <a:ext cx="54338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 . 14 . 422 . 689 . 21149 .22.   339039 . M. 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.  14 . 422 . 689.  13107. 22.   449051 . E.   1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47200002.  14.  422.  689.  13107. 22.   449052 . F.   1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38280" y="4730760"/>
              <a:ext cx="828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S.F     PG       PA     Reg.  Desp.     FR  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042920" y="1159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355e00"/>
                </a:solidFill>
                <a:latin typeface="Bookman Old Style"/>
              </a:rPr>
              <a:t>ESTRUTURA FUNCIONAL PROGRAMÁ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844640"/>
            <a:ext cx="41036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Unidade Orçamentá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Sub fun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rograma de Gover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5040" y="4522680"/>
            <a:ext cx="7775640" cy="1866960"/>
          </a:xfrm>
          <a:prstGeom prst="ellipse">
            <a:avLst/>
          </a:prstGeom>
          <a:noFill/>
          <a:ln w="28440">
            <a:solidFill>
              <a:srgbClr val="355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61080" y="2028960"/>
            <a:ext cx="3743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Regi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Elemento de Desp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Fonte Recur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220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Bookman Old Style"/>
              </a:rPr>
              <a:t>Idu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160640" y="4900680"/>
            <a:ext cx="8270640" cy="1362600"/>
            <a:chOff x="1160640" y="4900680"/>
            <a:chExt cx="8270640" cy="1362600"/>
          </a:xfrm>
        </p:grpSpPr>
        <p:sp>
          <p:nvSpPr>
            <p:cNvPr id="550" name=""/>
            <p:cNvSpPr/>
            <p:nvPr/>
          </p:nvSpPr>
          <p:spPr>
            <a:xfrm>
              <a:off x="1436040" y="5195880"/>
              <a:ext cx="556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2680"/>
                  <a:tab algn="l" pos="831960"/>
                  <a:tab algn="l" pos="1281240"/>
                  <a:tab algn="l" pos="1730520"/>
                  <a:tab algn="l" pos="2179800"/>
                  <a:tab algn="l" pos="2629080"/>
                  <a:tab algn="l" pos="3078000"/>
                  <a:tab algn="l" pos="3527280"/>
                  <a:tab algn="l" pos="3976560"/>
                  <a:tab algn="l" pos="4425840"/>
                  <a:tab algn="l" pos="4875120"/>
                  <a:tab algn="l" pos="5386320"/>
                  <a:tab algn="l" pos="5773680"/>
                  <a:tab algn="l" pos="6222960"/>
                  <a:tab algn="l" pos="6672240"/>
                  <a:tab algn="l" pos="7121520"/>
                  <a:tab algn="l" pos="7570800"/>
                  <a:tab algn="l" pos="8020080"/>
                  <a:tab algn="l" pos="8469360"/>
                  <a:tab algn="l" pos="8918640"/>
                  <a:tab algn="l" pos="8920080"/>
                  <a:tab algn="l" pos="9372600"/>
                  <a:tab algn="l" pos="9829800"/>
                  <a:tab algn="l" pos="10318680"/>
                  <a:tab algn="l" pos="107758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26100001 . 27 .  811 . 400 . 20324 .22 .  339036  .M .0</a:t>
              </a: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2680"/>
                  <a:tab algn="l" pos="831960"/>
                  <a:tab algn="l" pos="1281240"/>
                  <a:tab algn="l" pos="1730520"/>
                  <a:tab algn="l" pos="2179800"/>
                  <a:tab algn="l" pos="2629080"/>
                  <a:tab algn="l" pos="3078000"/>
                  <a:tab algn="l" pos="3527280"/>
                  <a:tab algn="l" pos="3976560"/>
                  <a:tab algn="l" pos="4425840"/>
                  <a:tab algn="l" pos="4875120"/>
                  <a:tab algn="l" pos="5386320"/>
                  <a:tab algn="l" pos="5773680"/>
                  <a:tab algn="l" pos="6222960"/>
                  <a:tab algn="l" pos="6672240"/>
                  <a:tab algn="l" pos="7121520"/>
                  <a:tab algn="l" pos="7570800"/>
                  <a:tab algn="l" pos="8020080"/>
                  <a:tab algn="l" pos="8469360"/>
                  <a:tab algn="l" pos="8918640"/>
                  <a:tab algn="l" pos="8920080"/>
                  <a:tab algn="l" pos="9372600"/>
                  <a:tab algn="l" pos="9829800"/>
                  <a:tab algn="l" pos="10318680"/>
                  <a:tab algn="l" pos="107758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26100001 . 27 .  811 . 400.  10333. 22 .  339036  .E .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2680"/>
                  <a:tab algn="l" pos="831960"/>
                  <a:tab algn="l" pos="1281240"/>
                  <a:tab algn="l" pos="1730520"/>
                  <a:tab algn="l" pos="2179800"/>
                  <a:tab algn="l" pos="2629080"/>
                  <a:tab algn="l" pos="3078000"/>
                  <a:tab algn="l" pos="3527280"/>
                  <a:tab algn="l" pos="3976560"/>
                  <a:tab algn="l" pos="4425840"/>
                  <a:tab algn="l" pos="4875120"/>
                  <a:tab algn="l" pos="5386320"/>
                  <a:tab algn="l" pos="5773680"/>
                  <a:tab algn="l" pos="6222960"/>
                  <a:tab algn="l" pos="6672240"/>
                  <a:tab algn="l" pos="7121520"/>
                  <a:tab algn="l" pos="7570800"/>
                  <a:tab algn="l" pos="8020080"/>
                  <a:tab algn="l" pos="8469360"/>
                  <a:tab algn="l" pos="8918640"/>
                  <a:tab algn="l" pos="8920080"/>
                  <a:tab algn="l" pos="9372600"/>
                  <a:tab algn="l" pos="9829800"/>
                  <a:tab algn="l" pos="10318680"/>
                  <a:tab algn="l" pos="107758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26100001 . 27 .  811 . 400 . 15678. 22 .  449051  .F .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2680"/>
                  <a:tab algn="l" pos="831960"/>
                  <a:tab algn="l" pos="1281240"/>
                  <a:tab algn="l" pos="1730520"/>
                  <a:tab algn="l" pos="2179800"/>
                  <a:tab algn="l" pos="2629080"/>
                  <a:tab algn="l" pos="3078000"/>
                  <a:tab algn="l" pos="3527280"/>
                  <a:tab algn="l" pos="3976560"/>
                  <a:tab algn="l" pos="4425840"/>
                  <a:tab algn="l" pos="4875120"/>
                  <a:tab algn="l" pos="5386320"/>
                  <a:tab algn="l" pos="5773680"/>
                  <a:tab algn="l" pos="6222960"/>
                  <a:tab algn="l" pos="6672240"/>
                  <a:tab algn="l" pos="7121520"/>
                  <a:tab algn="l" pos="7570800"/>
                  <a:tab algn="l" pos="8020080"/>
                  <a:tab algn="l" pos="8469360"/>
                  <a:tab algn="l" pos="8918640"/>
                  <a:tab algn="l" pos="8920080"/>
                  <a:tab algn="l" pos="9372600"/>
                  <a:tab algn="l" pos="9829800"/>
                  <a:tab algn="l" pos="10318680"/>
                  <a:tab algn="l" pos="1077588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60640" y="4900680"/>
              <a:ext cx="827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Verdana"/>
                </a:rPr>
                <a:t>U.O      Func.    S.F     PG       PA      Reg.   Desp.    FR  I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33480" y="2706840"/>
            <a:ext cx="7078680" cy="3009600"/>
          </a:xfrm>
          <a:prstGeom prst="roundRect">
            <a:avLst>
              <a:gd name="adj" fmla="val 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19960" y="2701800"/>
            <a:ext cx="6499800" cy="306000"/>
          </a:xfrm>
          <a:prstGeom prst="roundRect">
            <a:avLst>
              <a:gd name="adj" fmla="val 5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cione os dados da coluna “A” com os da coluna “B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62120" y="27036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86" y="0"/>
                </a:moveTo>
                <a:arcTo wR="186" hR="186" stAng="16200000" swAng="-5400000"/>
                <a:lnTo>
                  <a:pt x="0" y="98940"/>
                </a:lnTo>
                <a:arcTo wR="186" hR="186" stAng="10800000" swAng="-5400000"/>
                <a:lnTo>
                  <a:pt x="21414" y="9912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5320" y="29462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95200" y="3222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84000" y="3222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20800" y="3095640"/>
            <a:ext cx="200520" cy="305280"/>
          </a:xfrm>
          <a:custGeom>
            <a:avLst/>
            <a:gdLst/>
            <a:ahLst/>
            <a:rect l="l" t="t" r="r" b="b"/>
            <a:pathLst>
              <a:path w="21600" h="32865">
                <a:moveTo>
                  <a:pt x="100" y="0"/>
                </a:moveTo>
                <a:arcTo wR="100" hR="100" stAng="16200000" swAng="-5400000"/>
                <a:lnTo>
                  <a:pt x="0" y="32765"/>
                </a:lnTo>
                <a:arcTo wR="100" hR="100" stAng="10800000" swAng="-5400000"/>
                <a:lnTo>
                  <a:pt x="21500" y="32865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12680" y="3222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61" y="0"/>
                </a:moveTo>
                <a:arcTo wR="161" hR="161" stAng="16200000" swAng="-5400000"/>
                <a:lnTo>
                  <a:pt x="0" y="98965"/>
                </a:lnTo>
                <a:arcTo wR="161" hR="161" stAng="10800000" swAng="-5400000"/>
                <a:lnTo>
                  <a:pt x="21439" y="99126"/>
                </a:lnTo>
                <a:arcTo wR="161" hR="161" stAng="5400000" swAng="-5400000"/>
                <a:lnTo>
                  <a:pt x="21600" y="161"/>
                </a:lnTo>
                <a:arcTo wR="161" hR="16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53760" y="3063960"/>
            <a:ext cx="7226280" cy="431280"/>
            <a:chOff x="653760" y="3063960"/>
            <a:chExt cx="7226280" cy="431280"/>
          </a:xfrm>
        </p:grpSpPr>
        <p:sp>
          <p:nvSpPr>
            <p:cNvPr id="561" name=""/>
            <p:cNvSpPr/>
            <p:nvPr/>
          </p:nvSpPr>
          <p:spPr>
            <a:xfrm>
              <a:off x="653760" y="3063960"/>
              <a:ext cx="3574080" cy="43128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ATEGORIA ECONÔMICA (A)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22920" y="3095640"/>
              <a:ext cx="3057120" cy="3060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4600"/>
                  <a:tab algn="l" pos="893880"/>
                  <a:tab algn="l" pos="1343160"/>
                  <a:tab algn="l" pos="1792440"/>
                  <a:tab algn="l" pos="2241720"/>
                  <a:tab algn="l" pos="2690640"/>
                  <a:tab algn="l" pos="3139920"/>
                  <a:tab algn="l" pos="3589200"/>
                  <a:tab algn="l" pos="4038480"/>
                  <a:tab algn="l" pos="4487760"/>
                  <a:tab algn="l" pos="4937040"/>
                  <a:tab algn="l" pos="5386320"/>
                  <a:tab algn="l" pos="5835600"/>
                  <a:tab algn="l" pos="6284880"/>
                  <a:tab algn="l" pos="6734160"/>
                  <a:tab algn="l" pos="7183440"/>
                  <a:tab algn="l" pos="7632720"/>
                  <a:tab algn="l" pos="8082000"/>
                  <a:tab algn="l" pos="8531280"/>
                  <a:tab algn="l" pos="8980560"/>
                  <a:tab algn="l" pos="8982000"/>
                  <a:tab algn="l" pos="9431280"/>
                  <a:tab algn="l" pos="9880560"/>
                  <a:tab algn="l" pos="10329840"/>
                  <a:tab algn="l" pos="10779120"/>
                  <a:tab algn="l" pos="10780560"/>
                  <a:tab algn="l" pos="1078236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LEMENTO DE DESPESA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7933680" y="3024360"/>
            <a:ext cx="502920" cy="431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02400" y="3500280"/>
            <a:ext cx="300240" cy="3060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06000"/>
              <a:gd name="textAreaBottom" fmla="*/ 305640 h 306000"/>
            </a:gdLst>
            <a:ahLst/>
            <a:rect l="textAreaLeft" t="textAreaTop" r="textAreaRight" b="textAreaBottom"/>
            <a:pathLst>
              <a:path w="21600" h="22014">
                <a:moveTo>
                  <a:pt x="100" y="0"/>
                </a:moveTo>
                <a:arcTo wR="100" hR="100" stAng="16200000" swAng="-5400000"/>
                <a:lnTo>
                  <a:pt x="0" y="21914"/>
                </a:lnTo>
                <a:arcTo wR="100" hR="100" stAng="10800000" swAng="-5400000"/>
                <a:lnTo>
                  <a:pt x="21500" y="22014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8440" y="354492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7880" y="3500280"/>
            <a:ext cx="234216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pesa de Ca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33280" y="3502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41240" y="3502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94200" y="3500280"/>
            <a:ext cx="304344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Material de Consu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97080" y="3502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21480" y="3781440"/>
            <a:ext cx="300240" cy="3060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06000"/>
              <a:gd name="textAreaBottom" fmla="*/ 305640 h 306000"/>
            </a:gdLst>
            <a:ahLst/>
            <a:rect l="textAreaLeft" t="textAreaTop" r="textAreaRight" b="textAreaBottom"/>
            <a:pathLst>
              <a:path w="21600" h="22014">
                <a:moveTo>
                  <a:pt x="100" y="0"/>
                </a:moveTo>
                <a:arcTo wR="100" hR="100" stAng="16200000" swAng="-5400000"/>
                <a:lnTo>
                  <a:pt x="0" y="21914"/>
                </a:lnTo>
                <a:arcTo wR="100" hR="100" stAng="10800000" swAng="-5400000"/>
                <a:lnTo>
                  <a:pt x="21500" y="22014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03360" y="3824280"/>
            <a:ext cx="64800" cy="283680"/>
          </a:xfrm>
          <a:custGeom>
            <a:avLst/>
            <a:gdLst/>
            <a:ahLst/>
            <a:rect l="l" t="t" r="r" b="b"/>
            <a:pathLst>
              <a:path w="21600" h="94157">
                <a:moveTo>
                  <a:pt x="207" y="0"/>
                </a:moveTo>
                <a:arcTo wR="207" hR="207" stAng="16200000" swAng="-5400000"/>
                <a:lnTo>
                  <a:pt x="0" y="93950"/>
                </a:lnTo>
                <a:arcTo wR="207" hR="207" stAng="10800000" swAng="-5400000"/>
                <a:lnTo>
                  <a:pt x="21393" y="94157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62560" y="3781440"/>
            <a:ext cx="214416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pesa Cor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6600" y="37828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71360" y="37828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341240" y="37828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79880" y="3781440"/>
            <a:ext cx="258624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S. T. Pessoa Fís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47840" y="37828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2976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0912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8224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2836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148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7136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4124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00400" y="4059360"/>
            <a:ext cx="282096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S. T. Pesso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06680" y="4060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2976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0912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8224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2836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0148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7136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124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81240" y="4336920"/>
            <a:ext cx="313344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Equip. M. Perma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55760" y="434016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2976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912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2836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148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7136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124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50360" y="4616280"/>
            <a:ext cx="120708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Ob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66720" y="461808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2976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912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8224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2836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148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136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124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47840" y="4896000"/>
            <a:ext cx="131220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Diá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57440" y="489744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2976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0912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8224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2836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48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7136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4124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30120" y="5175360"/>
            <a:ext cx="3393720" cy="306000"/>
          </a:xfrm>
          <a:prstGeom prst="roundRect">
            <a:avLst>
              <a:gd name="adj" fmla="val 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  ) Passagens e Locomo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36840" y="517680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976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0912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8224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2836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0148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77136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124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06800" y="5454720"/>
            <a:ext cx="1800" cy="250920"/>
          </a:xfrm>
          <a:custGeom>
            <a:avLst/>
            <a:gdLst/>
            <a:ahLst/>
            <a:rect l="l" t="t" r="r" b="b"/>
            <a:pathLst>
              <a:path w="21600" h="2512800">
                <a:moveTo>
                  <a:pt x="10800" y="0"/>
                </a:moveTo>
                <a:arcTo wR="10800" hR="10800" stAng="16200000" swAng="-5400000"/>
                <a:lnTo>
                  <a:pt x="0" y="2502000"/>
                </a:lnTo>
                <a:arcTo wR="10800" hR="10800" stAng="10800000" swAng="-5400000"/>
                <a:lnTo>
                  <a:pt x="10800" y="251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79680" y="5454720"/>
            <a:ext cx="66240" cy="305280"/>
          </a:xfrm>
          <a:custGeom>
            <a:avLst/>
            <a:gdLst/>
            <a:ahLst/>
            <a:rect l="l" t="t" r="r" b="b"/>
            <a:pathLst>
              <a:path w="21600" h="99126">
                <a:moveTo>
                  <a:pt x="192" y="0"/>
                </a:moveTo>
                <a:arcTo wR="192" hR="192" stAng="16200000" swAng="-5400000"/>
                <a:lnTo>
                  <a:pt x="0" y="98934"/>
                </a:lnTo>
                <a:arcTo wR="192" hR="192" stAng="10800000" swAng="-5400000"/>
                <a:lnTo>
                  <a:pt x="21408" y="99126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6360" y="619200"/>
            <a:ext cx="824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800" spc="-1" strike="noStrike">
                <a:solidFill>
                  <a:srgbClr val="355e00"/>
                </a:solidFill>
                <a:latin typeface="Bookman Old Style"/>
              </a:rPr>
              <a:t>EXERCÍCIO 01 – Categorias Econômicas de Despe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10560" y="263520"/>
            <a:ext cx="8143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800" spc="-1" strike="noStrike">
                <a:solidFill>
                  <a:srgbClr val="355e00"/>
                </a:solidFill>
                <a:latin typeface="Bookman Old Style"/>
              </a:rPr>
              <a:t>EXERCÍCIO 02 – TIPOS DE DESPE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61360" y="1773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95880" y="198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86680" y="22366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98480" y="2486160"/>
            <a:ext cx="1800" cy="182520"/>
          </a:xfrm>
          <a:custGeom>
            <a:avLst/>
            <a:gdLst/>
            <a:ahLst/>
            <a:rect l="l" t="t" r="r" b="b"/>
            <a:pathLst>
              <a:path w="21600" h="1828800">
                <a:moveTo>
                  <a:pt x="10800" y="0"/>
                </a:moveTo>
                <a:arcTo wR="10800" hR="10800" stAng="16200000" swAng="-5400000"/>
                <a:lnTo>
                  <a:pt x="0" y="1818000"/>
                </a:lnTo>
                <a:arcTo wR="10800" hR="10800" stAng="10800000" swAng="-5400000"/>
                <a:lnTo>
                  <a:pt x="10800" y="1828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76400" y="25178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2486160"/>
            <a:ext cx="1800" cy="182520"/>
          </a:xfrm>
          <a:custGeom>
            <a:avLst/>
            <a:gdLst/>
            <a:ahLst/>
            <a:rect l="l" t="t" r="r" b="b"/>
            <a:pathLst>
              <a:path w="21600" h="1828800">
                <a:moveTo>
                  <a:pt x="10800" y="0"/>
                </a:moveTo>
                <a:arcTo wR="10800" hR="10800" stAng="16200000" swAng="-5400000"/>
                <a:lnTo>
                  <a:pt x="0" y="1818000"/>
                </a:lnTo>
                <a:arcTo wR="10800" hR="10800" stAng="10800000" swAng="-5400000"/>
                <a:lnTo>
                  <a:pt x="10800" y="1828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9760" y="248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95640" y="2459160"/>
            <a:ext cx="1440" cy="182520"/>
          </a:xfrm>
          <a:custGeom>
            <a:avLst/>
            <a:gdLst/>
            <a:ahLst/>
            <a:rect l="l" t="t" r="r" b="b"/>
            <a:pathLst>
              <a:path w="21600" h="2194560">
                <a:moveTo>
                  <a:pt x="10800" y="0"/>
                </a:moveTo>
                <a:arcTo wR="10800" hR="10800" stAng="16200000" swAng="-5400000"/>
                <a:lnTo>
                  <a:pt x="0" y="2183760"/>
                </a:lnTo>
                <a:arcTo wR="10800" hR="10800" stAng="10800000" swAng="-5400000"/>
                <a:lnTo>
                  <a:pt x="10800" y="2194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79840" y="2459160"/>
            <a:ext cx="1440" cy="182520"/>
          </a:xfrm>
          <a:custGeom>
            <a:avLst/>
            <a:gdLst/>
            <a:ahLst/>
            <a:rect l="l" t="t" r="r" b="b"/>
            <a:pathLst>
              <a:path w="21600" h="2194560">
                <a:moveTo>
                  <a:pt x="10800" y="0"/>
                </a:moveTo>
                <a:arcTo wR="10800" hR="10800" stAng="16200000" swAng="-5400000"/>
                <a:lnTo>
                  <a:pt x="0" y="2183760"/>
                </a:lnTo>
                <a:arcTo wR="10800" hR="10800" stAng="10800000" swAng="-5400000"/>
                <a:lnTo>
                  <a:pt x="10800" y="2194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32280" y="245916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49520" y="2459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52800" y="2459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70480" y="27367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62000" y="2739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73520" y="270828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49480" y="2708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49520" y="2708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70480" y="29862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38200" y="2957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41480" y="2957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49480" y="2957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49520" y="2957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52800" y="2957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70480" y="32353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62000" y="32385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19560" y="3484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0480" y="3484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9380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4148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4476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4948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4952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52800" y="34574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70480" y="3735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62000" y="37400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40240" y="3986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70480" y="3986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9480" y="3986280"/>
            <a:ext cx="1800" cy="182520"/>
          </a:xfrm>
          <a:custGeom>
            <a:avLst/>
            <a:gdLst/>
            <a:ahLst/>
            <a:rect l="l" t="t" r="r" b="b"/>
            <a:pathLst>
              <a:path w="21600" h="1828800">
                <a:moveTo>
                  <a:pt x="10800" y="0"/>
                </a:moveTo>
                <a:arcTo wR="10800" hR="10800" stAng="16200000" swAng="-5400000"/>
                <a:lnTo>
                  <a:pt x="0" y="1818000"/>
                </a:lnTo>
                <a:arcTo wR="10800" hR="10800" stAng="10800000" swAng="-5400000"/>
                <a:lnTo>
                  <a:pt x="10800" y="1828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3820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4148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4476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4948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4952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52800" y="3957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70480" y="4235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41680" y="44845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70480" y="44845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9380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4148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4476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4948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4952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52800" y="4456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70480" y="47340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62000" y="47386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59480" y="498492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086760" y="5013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9380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4148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4476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4624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4952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52800" y="4956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70480" y="52340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62000" y="52387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38720" y="5484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70480" y="5484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972040" y="5484960"/>
            <a:ext cx="1800" cy="182520"/>
          </a:xfrm>
          <a:custGeom>
            <a:avLst/>
            <a:gdLst/>
            <a:ahLst/>
            <a:rect l="l" t="t" r="r" b="b"/>
            <a:pathLst>
              <a:path w="21600" h="1828800">
                <a:moveTo>
                  <a:pt x="10800" y="0"/>
                </a:moveTo>
                <a:arcTo wR="10800" hR="10800" stAng="16200000" swAng="-5400000"/>
                <a:lnTo>
                  <a:pt x="0" y="1818000"/>
                </a:lnTo>
                <a:arcTo wR="10800" hR="10800" stAng="10800000" swAng="-5400000"/>
                <a:lnTo>
                  <a:pt x="10800" y="1828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1280" y="5484960"/>
            <a:ext cx="1440" cy="182520"/>
          </a:xfrm>
          <a:custGeom>
            <a:avLst/>
            <a:gdLst/>
            <a:ahLst/>
            <a:rect l="l" t="t" r="r" b="b"/>
            <a:pathLst>
              <a:path w="21600" h="2194560">
                <a:moveTo>
                  <a:pt x="10800" y="0"/>
                </a:moveTo>
                <a:arcTo wR="10800" hR="10800" stAng="16200000" swAng="-5400000"/>
                <a:lnTo>
                  <a:pt x="0" y="2183760"/>
                </a:lnTo>
                <a:arcTo wR="10800" hR="10800" stAng="10800000" swAng="-5400000"/>
                <a:lnTo>
                  <a:pt x="10800" y="2194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3820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4148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4476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4624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4952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0" y="5456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70480" y="5734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62000" y="57373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784600" y="57056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46240" y="57056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49520" y="57056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80000" y="5705640"/>
            <a:ext cx="218880" cy="185040"/>
          </a:xfrm>
          <a:prstGeom prst="roundRect">
            <a:avLst>
              <a:gd name="adj" fmla="val 23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754440" y="57038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180" y="0"/>
                </a:moveTo>
                <a:arcTo wR="180" hR="180" stAng="16200000" swAng="-5400000"/>
                <a:lnTo>
                  <a:pt x="0" y="85048"/>
                </a:lnTo>
                <a:arcTo wR="180" hR="180" stAng="10800000" swAng="-5400000"/>
                <a:lnTo>
                  <a:pt x="21420" y="85228"/>
                </a:lnTo>
                <a:arcTo wR="180" hR="180" stAng="5400000" swAng="-5400000"/>
                <a:lnTo>
                  <a:pt x="21600" y="180"/>
                </a:lnTo>
                <a:arcTo wR="180" hR="18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90840" y="59817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177" y="0"/>
                </a:moveTo>
                <a:arcTo wR="177" hR="177" stAng="16200000" swAng="-5400000"/>
                <a:lnTo>
                  <a:pt x="0" y="85051"/>
                </a:lnTo>
                <a:arcTo wR="177" hR="177" stAng="10800000" swAng="-5400000"/>
                <a:lnTo>
                  <a:pt x="21423" y="85228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56040" y="59817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177" y="0"/>
                </a:moveTo>
                <a:arcTo wR="177" hR="177" stAng="16200000" swAng="-5400000"/>
                <a:lnTo>
                  <a:pt x="0" y="85051"/>
                </a:lnTo>
                <a:arcTo wR="177" hR="177" stAng="10800000" swAng="-5400000"/>
                <a:lnTo>
                  <a:pt x="21423" y="85228"/>
                </a:lnTo>
                <a:arcTo wR="177" hR="177" stAng="5400000" swAng="-5400000"/>
                <a:lnTo>
                  <a:pt x="21600" y="177"/>
                </a:lnTo>
                <a:arcTo wR="177" hR="17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759200" y="2781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445000" y="2781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23040" y="278136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2781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59200" y="3032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423040" y="303228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74120" y="303228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759200" y="3281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4120" y="3281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75440" y="32814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59200" y="35305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816680" y="35305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59200" y="37800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4120" y="37800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52640" y="3780000"/>
            <a:ext cx="7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947000" y="3780000"/>
            <a:ext cx="65160" cy="201600"/>
          </a:xfrm>
          <a:custGeom>
            <a:avLst/>
            <a:gdLst>
              <a:gd name="textAreaLeft" fmla="*/ 9360 w 65160"/>
              <a:gd name="textAreaRight" fmla="*/ 55800 w 65160"/>
              <a:gd name="textAreaTop" fmla="*/ 9360 h 201600"/>
              <a:gd name="textAreaBottom" fmla="*/ 192240 h 201600"/>
            </a:gdLst>
            <a:ahLst/>
            <a:rect l="textAreaLeft" t="textAreaTop" r="textAreaRight" b="textAreaBottom"/>
            <a:pathLst>
              <a:path w="21600" h="66580">
                <a:moveTo>
                  <a:pt x="10800" y="0"/>
                </a:moveTo>
                <a:arcTo wR="10800" hR="10800" stAng="16200000" swAng="-5400000"/>
                <a:lnTo>
                  <a:pt x="0" y="55780"/>
                </a:lnTo>
                <a:arcTo wR="10800" hR="10800" stAng="10800000" swAng="-5400000"/>
                <a:lnTo>
                  <a:pt x="10800" y="6658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59200" y="40305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34120" y="40305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942320" y="40305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59200" y="4281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4281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23040" y="428148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21480" y="4281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939080" y="42814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759200" y="45306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4120" y="45306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39080" y="45306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59200" y="4780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94400" y="4780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534440" y="479736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189" y="0"/>
                </a:moveTo>
                <a:arcTo wR="189" hR="189" stAng="16200000" swAng="-5400000"/>
                <a:lnTo>
                  <a:pt x="0" y="85705"/>
                </a:lnTo>
                <a:arcTo wR="189" hR="189" stAng="10800000" swAng="-5400000"/>
                <a:lnTo>
                  <a:pt x="21411" y="85894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93080" y="47800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59200" y="50292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61000" y="50133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21480" y="502920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59200" y="528012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23040" y="528012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58040" y="5300640"/>
            <a:ext cx="81000" cy="182520"/>
          </a:xfrm>
          <a:custGeom>
            <a:avLst/>
            <a:gdLst/>
            <a:ahLst/>
            <a:rect l="l" t="t" r="r" b="b"/>
            <a:pathLst>
              <a:path w="21600" h="48552">
                <a:moveTo>
                  <a:pt x="189" y="0"/>
                </a:moveTo>
                <a:arcTo wR="189" hR="189" stAng="16200000" swAng="-5400000"/>
                <a:lnTo>
                  <a:pt x="0" y="48363"/>
                </a:lnTo>
                <a:arcTo wR="189" hR="189" stAng="10800000" swAng="-5400000"/>
                <a:lnTo>
                  <a:pt x="21411" y="48552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96280" y="53006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189" y="0"/>
                </a:moveTo>
                <a:arcTo wR="189" hR="189" stAng="16200000" swAng="-5400000"/>
                <a:lnTo>
                  <a:pt x="0" y="85039"/>
                </a:lnTo>
                <a:arcTo wR="189" hR="189" stAng="10800000" swAng="-5400000"/>
                <a:lnTo>
                  <a:pt x="21411" y="85228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59200" y="55292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23040" y="5529240"/>
            <a:ext cx="45720" cy="182880"/>
          </a:xfrm>
          <a:custGeom>
            <a:avLst/>
            <a:gdLst/>
            <a:ahLst/>
            <a:rect l="l" t="t" r="r" b="b"/>
            <a:pathLst>
              <a:path w="21600" h="85894">
                <a:moveTo>
                  <a:pt x="514" y="0"/>
                </a:moveTo>
                <a:arcTo wR="514" hR="514" stAng="16200000" swAng="-5400000"/>
                <a:lnTo>
                  <a:pt x="0" y="85380"/>
                </a:lnTo>
                <a:arcTo wR="514" hR="514" stAng="10800000" swAng="-5400000"/>
                <a:lnTo>
                  <a:pt x="21086" y="8589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205840" y="552924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59200" y="5780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62480" y="5780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70600" y="57801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59200" y="6029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33840" y="6029280"/>
            <a:ext cx="92160" cy="182880"/>
          </a:xfrm>
          <a:custGeom>
            <a:avLst/>
            <a:gdLst/>
            <a:ahLst/>
            <a:rect l="l" t="t" r="r" b="b"/>
            <a:pathLst>
              <a:path w="21600" h="42780">
                <a:moveTo>
                  <a:pt x="257" y="0"/>
                </a:moveTo>
                <a:arcTo wR="257" hR="257" stAng="16200000" swAng="-5400000"/>
                <a:lnTo>
                  <a:pt x="0" y="42523"/>
                </a:lnTo>
                <a:arcTo wR="257" hR="257" stAng="10800000" swAng="-5400000"/>
                <a:lnTo>
                  <a:pt x="21343" y="42780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88160" y="602928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514" y="0"/>
                </a:moveTo>
                <a:arcTo wR="514" hR="514" stAng="16200000" swAng="-5400000"/>
                <a:lnTo>
                  <a:pt x="0" y="84714"/>
                </a:lnTo>
                <a:arcTo wR="514" hR="514" stAng="10800000" swAng="-5400000"/>
                <a:lnTo>
                  <a:pt x="21086" y="85228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27520" y="6276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450" y="0"/>
                </a:moveTo>
                <a:arcTo wR="450" hR="450" stAng="16200000" swAng="-5400000"/>
                <a:lnTo>
                  <a:pt x="0" y="84778"/>
                </a:lnTo>
                <a:arcTo wR="450" hR="450" stAng="10800000" swAng="-5400000"/>
                <a:lnTo>
                  <a:pt x="21150" y="85228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11760" y="6276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450" y="0"/>
                </a:moveTo>
                <a:arcTo wR="450" hR="450" stAng="16200000" swAng="-5400000"/>
                <a:lnTo>
                  <a:pt x="0" y="84778"/>
                </a:lnTo>
                <a:arcTo wR="450" hR="450" stAng="10800000" swAng="-5400000"/>
                <a:lnTo>
                  <a:pt x="21150" y="85228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11920" y="6276960"/>
            <a:ext cx="46080" cy="182880"/>
          </a:xfrm>
          <a:custGeom>
            <a:avLst/>
            <a:gdLst/>
            <a:ahLst/>
            <a:rect l="l" t="t" r="r" b="b"/>
            <a:pathLst>
              <a:path w="21600" h="85228">
                <a:moveTo>
                  <a:pt x="450" y="0"/>
                </a:moveTo>
                <a:arcTo wR="450" hR="450" stAng="16200000" swAng="-5400000"/>
                <a:lnTo>
                  <a:pt x="0" y="84778"/>
                </a:lnTo>
                <a:arcTo wR="450" hR="450" stAng="10800000" swAng="-5400000"/>
                <a:lnTo>
                  <a:pt x="21150" y="85228"/>
                </a:lnTo>
                <a:arcTo wR="450" hR="450" stAng="5400000" swAng="-5400000"/>
                <a:lnTo>
                  <a:pt x="21600" y="450"/>
                </a:lnTo>
                <a:arcTo wR="450" hR="45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31800" y="1521000"/>
            <a:ext cx="6567480" cy="30672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cione os dados da coluna “A” com os da coluna “B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6120" y="2035080"/>
            <a:ext cx="3863880" cy="30672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EMENTOS DE DESPESA (A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4600" y="2016000"/>
            <a:ext cx="3425760" cy="30672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X  TIPOS DE DESPESA (B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3200" y="2879640"/>
            <a:ext cx="3376800" cy="306468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1) VANTAGENS FIX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4)  Diá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0) Material de Consu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3) Passagens e Locomo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6) S. T. Pessoa Fís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9) S. T. Pesso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52) Equip. M. Perma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51) Ob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89080" y="3135240"/>
            <a:ext cx="3274920" cy="30492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98920" y="2503440"/>
            <a:ext cx="4645080" cy="39639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Viagem a serviços/p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Locação de veícul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Aquisição de computador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Combustí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La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folha de servidore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)  Energia elé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Aquisição de impresso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Combustí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Suprimento de Informát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Construção de um C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  )  Materiais para escritó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64000" y="2754360"/>
            <a:ext cx="3060720" cy="30636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1800" y="3114720"/>
            <a:ext cx="3870360" cy="30636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84920" y="3581280"/>
            <a:ext cx="77760" cy="305280"/>
          </a:xfrm>
          <a:custGeom>
            <a:avLst/>
            <a:gdLst/>
            <a:ahLst/>
            <a:rect l="l" t="t" r="r" b="b"/>
            <a:pathLst>
              <a:path w="21600" h="84509">
                <a:moveTo>
                  <a:pt x="189" y="0"/>
                </a:moveTo>
                <a:arcTo wR="189" hR="189" stAng="16200000" swAng="-5400000"/>
                <a:lnTo>
                  <a:pt x="0" y="84320"/>
                </a:lnTo>
                <a:arcTo wR="189" hR="189" stAng="10800000" swAng="-5400000"/>
                <a:lnTo>
                  <a:pt x="21411" y="84509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0000" y="4140360"/>
            <a:ext cx="4016160" cy="30636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72080" y="3913200"/>
            <a:ext cx="3789360" cy="30636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48280" y="6021360"/>
            <a:ext cx="3591000" cy="306360"/>
          </a:xfrm>
          <a:prstGeom prst="roundRect">
            <a:avLst>
              <a:gd name="adj" fmla="val 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11280" y="517680"/>
            <a:ext cx="816588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400" spc="-1" strike="noStrike">
                <a:solidFill>
                  <a:srgbClr val="355e00"/>
                </a:solidFill>
                <a:latin typeface="Times New Roman"/>
              </a:rPr>
              <a:t>AGRADEÇO À  ATENÇÃO                  DE TODO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55e00"/>
                </a:solidFill>
                <a:latin typeface="Times New Roman"/>
              </a:rPr>
              <a:t>paulopimentaasocial@hotmai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4400" spc="-1" strike="noStrike">
                <a:solidFill>
                  <a:srgbClr val="355e00"/>
                </a:solidFill>
                <a:latin typeface="Times New Roman"/>
              </a:rPr>
              <a:t>Fones : (85)9921346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076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00000" y="720720"/>
            <a:ext cx="79488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tanto deve haver o compartilhamento e trocas de saberes , entre os atores que atuam nas áreas técnicas (teoricas ) e gestão orçamentária e financeira para poder viabilizar maiores entendimentos pelos conselhos e gestores das questões afetas ao campo do Financi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com isto fazer com os que  atuam no controle das políticas públicas, possam efetivar estes controles de forma a contribuir e avali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deve ser garantido para supri-las e atendê-l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00000" y="720720"/>
            <a:ext cx="79488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2200" indent="-24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24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249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mos entender que o maior problema da ineficiência governamental não é exatamente gastar muito, mais gastar 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249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mos diante de uma nova realidade fiscal, na qual se estabeleceram mecanismo de acompanhamento e controle da gestão e dos gestores públicos. Entretanto, este novo paradigma ainda não se consolidou efetivament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24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24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00000" y="539640"/>
            <a:ext cx="7199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4000" spc="-1" strike="noStrike">
                <a:solidFill>
                  <a:srgbClr val="00ae00"/>
                </a:solidFill>
                <a:latin typeface="Arial Black"/>
              </a:rPr>
              <a:t>INSTRUMENTOS 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00ae00"/>
                </a:solidFill>
                <a:latin typeface="Arial Black"/>
              </a:rPr>
              <a:t>       </a:t>
            </a:r>
            <a:r>
              <a:rPr b="0" lang="pt-BR" sz="4000" spc="-1" strike="noStrike">
                <a:solidFill>
                  <a:srgbClr val="00ae00"/>
                </a:solidFill>
                <a:latin typeface="Arial Black"/>
              </a:rPr>
              <a:t>PLANEJAM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00ae00"/>
                </a:solidFill>
                <a:latin typeface="Arial Black"/>
              </a:rPr>
              <a:t>DO ORÇAMENTO PÚBL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4000" spc="-1" strike="noStrike">
                <a:solidFill>
                  <a:srgbClr val="00ae00"/>
                </a:solidFill>
                <a:latin typeface="Arial Black"/>
              </a:rPr>
              <a:t>Compromisso dos governantes com a sociedade para a execução das políticas Públic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6920" y="1628640"/>
            <a:ext cx="763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1260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i a síntese dos esforços de planejamento da administração pública, orientando os demais planos e programas de governo, assim como o próprio Orçamento Anual. (Giacomoni, 2002, p. 198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um planejamento de longo prazo (04 anos), ou seja, tem tem vigência para os três últimos anos de mandato do governo que o elaborou e para o primeiro mandato do próximo gov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cumentos que dão diretrizes ao Plano Plurianu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ama eleitoral de govern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tituição Fede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tituição Estadu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i Orgânica do Municíp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6760" y="144360"/>
            <a:ext cx="66992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4000" spc="-1" strike="noStrike">
                <a:solidFill>
                  <a:srgbClr val="ff0000"/>
                </a:solidFill>
                <a:latin typeface="Bookman Old Style"/>
              </a:rPr>
              <a:t>PPA – PLANO PLURIANU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4680" y="1260360"/>
            <a:ext cx="773568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ama eleitoral de govern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tituição Federal Artigo 16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tituição Estadu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i Orgânica do Municíp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36036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pt-BR" sz="3200" spc="-1" strike="noStrike">
                <a:solidFill>
                  <a:srgbClr val="355e00"/>
                </a:solidFill>
                <a:latin typeface="Arial"/>
              </a:rPr>
              <a:t>Documentos que dão diretrizes para  Plano Pluri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oC</dc:creator>
  <dc:description/>
  <dc:language>en-US</dc:language>
  <cp:lastModifiedBy/>
  <cp:lastPrinted>2014-05-22T16:38:45Z</cp:lastPrinted>
  <dcterms:modified xsi:type="dcterms:W3CDTF">2021-09-20T18:22:15Z</dcterms:modified>
  <cp:revision>7</cp:revision>
  <dc:subject/>
  <dc:title>Slide sem título </dc:title>
</cp:coreProperties>
</file>